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A06DCE-89A2-4E26-A83E-DFDFE9B1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C22DB6-20CB-4944-B2DA-23DCC8DFB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780B-6A87-4448-997F-788D2BC4E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902D-FF11-4897-993D-CAA99ECF9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2961-158F-43FD-9E9C-CEBC3C4A9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BF50-884B-467C-95E4-5133CD15C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995D-885E-43D5-AECC-778421D804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A43C-A56A-4524-9773-B7248C97AA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ECB4-2F70-4408-8FB3-DE3DBF43F5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C4AF-E94E-430D-BF91-A0F8DD2B04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A206-C041-47DD-9FDC-339DA1C396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2637-D600-4DF1-9E24-92E3592857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09A6-9A7F-4533-8FC6-BB778F4783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FBE1-42C0-4185-B3AB-8AF3810D3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62B0-D625-41A2-9E81-2C56153242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08F2-057B-4F2C-97FB-BACD7A82E7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C2AC-5342-4C8E-96E6-62C84205DD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F71F-B445-4F7B-95DA-26719A12E3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F698-4E29-43D6-A6A8-B1E099B5F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CC56-3341-45CB-A071-B0B493DEB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4B20-2D62-4491-89CD-1EC1269BB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0576-009D-49E8-9B9B-659C30CF1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55D2-69B7-4572-B5D6-4989892F9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0E59-51B1-43C2-ABAB-C0740EAE9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F777-94E2-4CE6-8184-B3493111C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A8DB-45BD-4779-9199-E79C41E25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F02B-386D-4FB1-B9E8-977BCBC20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806A-8F4B-45EC-9A54-FF3353C4B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sac.org/sl/applicants/step06/on-premise-priority1-equipment.aspx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Eligible Servi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E15D-276B-427D-9138-B5C674659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ed VoIP or PBX equipment are NOT eligible for Priority One fu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moving the VoIP or PBX equipment, the local voice network will cease to function.  This equipment is eligible ONLY as Internal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On-Prem P1 Single demarc VoIP p1p2"/>
          <p:cNvPicPr/>
          <p:nvPr/>
        </p:nvPicPr>
        <p:blipFill>
          <a:blip r:embed="rId1"/>
          <a:stretch/>
        </p:blipFill>
        <p:spPr>
          <a:xfrm>
            <a:off x="762120" y="2362320"/>
            <a:ext cx="74674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560" y="1218960"/>
            <a:ext cx="83055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ultipurpose leased router may be eligible for Priority One funding if, as seen in this example, the internal data and voice network functions without dependence on the leased rou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F46E-392B-40C0-9F77-9DBA89392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Content Placeholder 8" descr="Data and Voice On-Prem P1 Single demarc VoIP w router eligible.jpg"/>
          <p:cNvPicPr/>
          <p:nvPr/>
        </p:nvPicPr>
        <p:blipFill>
          <a:blip r:embed="rId1"/>
          <a:stretch/>
        </p:blipFill>
        <p:spPr>
          <a:xfrm>
            <a:off x="457200" y="2382840"/>
            <a:ext cx="83059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218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ateway may be leased with eligible Priority One VoIP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ateway is considered a single basic terminating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VoIP Gateway Multi Demarc"/>
          <p:cNvPicPr/>
          <p:nvPr/>
        </p:nvPicPr>
        <p:blipFill>
          <a:blip r:embed="rId1"/>
          <a:stretch/>
        </p:blipFill>
        <p:spPr>
          <a:xfrm>
            <a:off x="685800" y="2057400"/>
            <a:ext cx="7391520" cy="4081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BE9B-909E-4FF1-AC39-0B86FEFFA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E81-4634-49C0-A43E-F748205E7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hardware and O/S software are eligible for 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licenses critical for the functioning of the IP telephone devices are elig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user devices are not eligible such as IP phones and Softph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91120" y="624528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D1D4-E9BD-4296-AF17-522F87DAB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means for a school or library to display content o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of web site traffic (bandwid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of disk space for storing applicant provid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of File Transfer Protocol (FTP) transfer or a Web interface to uploa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CF04-A781-4D6A-A2CB-36441A05C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ligible features/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Cre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/Grad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F2D1-0D8A-4603-9E67-E3A0070D5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Y2009 and forward, password protected pages are Elig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your vendor to find out their eligibility percentage if it is not listed in their b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rease the chance of a quicker PIA review, show that the ineligibles are removed in your Item 21 attach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7728-812C-4772-B778-B08AA6F71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4191120" y="624528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7C4C-0209-47C4-B747-DF5FE025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Maintenance of Internal Connec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Priority Tw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10D3-2B76-4EDA-B901-DCAC2424C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e necessary and continued operation of eligible internal connection components at eligible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C is a Recurr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must be within Jul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un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C is exempt from the Two-in-Fiv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0803-C055-42DA-B1DB-A5CDA37A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Premise Equipment as Priorit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Maintenance of Internal Connections (BM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BMIC task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ir and Upkeep of eligi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-Fi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O/S patches and security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 and Cable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-Fi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Technic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ing vendor to diagnose and solve hardwa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new equipment is added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dware needs to be reconfig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CA94-E14B-40EF-87DC-BEECC7D6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ligible BMIC task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upport for an end-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udent calling the vendor to reset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Hour network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on-site technical support (i.e. contractor duty station at the applican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igning the network to achieve maximum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0C74-4867-4FEF-A508-F198454C2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F5D3-C83F-4E52-B332-E638127C0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BC8A-DB9D-4FDC-BAFB-3826502F4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-Premise Priority 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located on the applicant’s premise are presumed to be Internal Conn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is presumption can be rebutted under certain conditions as part of an end-to-end Priority On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AC website goes into great detail as to each of the </a:t>
            </a:r>
            <a:r>
              <a:rPr b="0" lang="en-US" sz="2800" spc="-1" strike="noStrike" u="sng">
                <a:solidFill>
                  <a:srgbClr val="2a56b2"/>
                </a:solidFill>
                <a:uFillTx/>
                <a:latin typeface="Arial"/>
                <a:hlinkClick r:id="rId1"/>
              </a:rPr>
              <a:t>On-Premise Priority One Equi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F3B-FBB7-4426-BACF-3C76F257A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-Premise Equipmen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ased router may be eligible for P1 funding if all conditions ar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demarcation – If the router is removed, the LAN would continue to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On-Prem P1 service.jpg"/>
          <p:cNvPicPr/>
          <p:nvPr/>
        </p:nvPicPr>
        <p:blipFill>
          <a:blip r:embed="rId1"/>
          <a:stretch/>
        </p:blipFill>
        <p:spPr>
          <a:xfrm>
            <a:off x="457200" y="251460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E831-EC45-4E55-B122-2685AD873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-Premise Equipmen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10666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ased router is NOT eligible for P1 fu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demarcations – If the router is removed, the LAN would cease to function which violates program rules for Priority One eligibility.  Router may be eligible in 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On-Prem P1 Multi demarc.jpg"/>
          <p:cNvPicPr/>
          <p:nvPr/>
        </p:nvPicPr>
        <p:blipFill>
          <a:blip r:embed="rId1"/>
          <a:stretch/>
        </p:blipFill>
        <p:spPr>
          <a:xfrm>
            <a:off x="457200" y="2514600"/>
            <a:ext cx="7924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A3F1-A9E7-4FEA-9BDB-EFD832CCA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onnected VoIP is defined as a servi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real-time, two-way voice commun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 broadband connection from the user’s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B4FF-12BA-4684-A6B1-E4F20210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Internet protocol-compatible customer premises equipment (CP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s users generally to receive calls that originate on the public switched telephone network and to terminate calls to the public switched telephon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7E25-4AF9-4A04-A782-C91352272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O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pplied for in either Telecommunications or Internet Access on Form 4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highly recommends posting in both Telecom and Internet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Eflock</cp:lastModifiedBy>
  <dcterms:modified xsi:type="dcterms:W3CDTF">2009-09-18T16:29:35Z</dcterms:modified>
  <cp:revision>154</cp:revision>
  <dc:subject/>
  <dc:title>Slide 1</dc:title>
</cp:coreProperties>
</file>